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1CD-C76B-4257-937E-F02CF2DC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65D-4A12-4B17-A91B-6D885206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663-3A58-413F-88D3-09FE7304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9BD-7155-4E71-A1B2-C339B98C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60EB-DCD0-40E3-AD25-3E357619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8895-210A-4BE1-9FB8-C64CD427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7424-75DD-4801-9DA8-CC8FAB18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2A7D-4B74-4200-80B8-0574C86F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D8DC-84F9-4CBA-9BFD-D8BF099C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8537-7179-4A41-A228-70D8E6AB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FD5A-5D54-4801-9A15-8913E524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7FE-FF80-4E5F-9CCE-5097948F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A895-557D-47A4-9A38-9C52661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E72F-2F23-48A7-8212-5A98DBDD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579D-5AE1-4E29-8ABB-E92110DC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AB05-F659-415F-BCB5-7760020B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266C-CEE5-4B31-9BBD-37B45047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3A5-8031-4114-994D-73CF291E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A28-10B3-4490-85DD-EE8B755B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2A3-92B7-4A6E-8F4E-DA4B3F71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5B9-182D-45AB-88B9-C38EFF4E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6A2-8F15-4103-83FC-EE673E45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D6B-50FC-4FDE-818C-256742C7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E27-768F-46C9-9DFA-A0DCF83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5B11-3C75-42A8-A662-A7D88759B4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99EE-7E78-49C5-855C-8FD17C466F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neric or Brand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eople prefer Brand Soda to Generic Sod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astebuds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kqu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5 Nov. 2010. &lt;http://library.thinkquest.org/3750/taste/taste.html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astebuds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nline Encyclope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5 Nov. 2010. &lt;http://en.wikipedia.org/wiki/Taste_bud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astebuds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ds Heal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5 Nov. 2010. &lt;http://kidshealth.org/kid/talk/qa/taste_buds.html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ill people prefer Brand Soda or will they prefer Generic Soda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is will prove how some peoples taste buds are different from other peoples buds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believe people will prefer brand soda compared to generic because I believe that the brand soda has more additives therefore it has more flavo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e using the following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rus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ain D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will first take students and let them drink the sod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n they will tell me which they pref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will record the results in my Science Noteboo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638680" y="152280"/>
          <a:ext cx="3124080" cy="465768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7200" y="152280"/>
          <a:ext cx="2895480" cy="465768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r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i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ra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h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e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s. Riff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n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yl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581280" y="190512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= Citrus Dr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D= Mnt. D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of the boys prefer the generic soda Citrus Drop than the brand soda Mountain De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other hand most of the girls prefer the brand soda Mountain Dew over Citrus Dr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clusion my hypothesis was incorrect because most of the men preferred the Citrus Drop than Mnt. De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on the other hand most of the girls preferred the Mnt. Dew than Citrus Dr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S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of the boys said they liked the soda better because it had a better flavor and more carbonat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test was ran without the testers knowing what soda was wh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5:11:43Z</dcterms:created>
  <dc:creator>USD376</dc:creator>
  <dc:description/>
  <dc:language>en-US</dc:language>
  <cp:lastModifiedBy>USD376</cp:lastModifiedBy>
  <dcterms:modified xsi:type="dcterms:W3CDTF">2011-01-26T14:59:02Z</dcterms:modified>
  <cp:revision>7</cp:revision>
  <dc:subject/>
  <dc:title>Generic or Brand?</dc:title>
</cp:coreProperties>
</file>